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1C5-77C5-4249-A543-7D1C555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E12-B22A-4E41-B146-B50BC4B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0B4-F454-4527-B274-D91D0550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2F6-6289-4669-A082-DA84544F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5A7-4B26-419D-9B0A-4527176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617-42C9-46C8-8689-D3C178B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1B1-C879-401E-9689-9376267E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EF3-F35E-4A30-A5C9-83AEAD3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7A4-950A-4372-9354-D4BC94C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714-5CF8-4A24-8AE1-EEF5B92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527-F1A2-40DA-93CE-BCEBD11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303-1372-47C2-81F5-34B0F03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01B2-9AB2-419A-8C19-2C5D3FA5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24720" y="4133880"/>
            <a:ext cx="1114560" cy="110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rdfa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7040" y="154296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u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514520"/>
            <a:ext cx="230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71840" y="2238480"/>
            <a:ext cx="390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43920" y="1657440"/>
            <a:ext cx="485640" cy="48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43920" y="2143080"/>
            <a:ext cx="495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2590920"/>
            <a:ext cx="63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1840" y="1952640"/>
            <a:ext cx="19980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8400" y="1943280"/>
            <a:ext cx="2286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0001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81240" y="1905120"/>
            <a:ext cx="11239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9560" y="1523880"/>
            <a:ext cx="1114200" cy="110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f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94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863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52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943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3040" y="2600280"/>
            <a:ext cx="495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atch R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5880" y="2038320"/>
            <a:ext cx="71424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egu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0" y="2514600"/>
            <a:ext cx="1713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52388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012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73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33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05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5336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05320" y="1914480"/>
            <a:ext cx="1276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53200" y="20289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10240" y="1981080"/>
            <a:ext cx="19044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295360"/>
            <a:ext cx="13356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77000" y="2295360"/>
            <a:ext cx="13320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657520"/>
            <a:ext cx="13356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23623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48480" y="2657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647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74320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acuum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8400" y="3000240"/>
            <a:ext cx="30492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3276720"/>
            <a:ext cx="66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acuu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43760" y="320040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Refine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7040" y="3438360"/>
            <a:ext cx="981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4467240"/>
            <a:ext cx="36180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8006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oces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2760" y="3828960"/>
            <a:ext cx="828720" cy="8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es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6680" y="401940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48160" y="402912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72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5480" y="4286160"/>
            <a:ext cx="22860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39625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esterif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14640" y="483876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18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82904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6232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292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5480" y="4600440"/>
            <a:ext cx="2095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43480" y="4562640"/>
            <a:ext cx="42876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86280" y="4419720"/>
            <a:ext cx="39060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43815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438156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71484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760" y="248616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5200" y="2362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31920" y="3048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95280"/>
            <a:ext cx="8839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647960" y="1066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2280" y="502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44:58Z</dcterms:created>
  <dc:creator>Travis</dc:creator>
  <dc:description/>
  <dc:language>en-US</dc:language>
  <cp:lastModifiedBy>Travis</cp:lastModifiedBy>
  <dcterms:modified xsi:type="dcterms:W3CDTF">2010-04-04T23:53:51Z</dcterms:modified>
  <cp:revision>3</cp:revision>
  <dc:subject/>
  <dc:title>Slide 1</dc:title>
</cp:coreProperties>
</file>